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0FE-4B76-46FC-9A4B-77BD8E12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1A6-C4FB-490B-B379-1930AB23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2395C-59D2-4BA6-A6F4-0626348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B325-4DA8-48C8-838A-510488E4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7B7B8-66CB-4C92-9053-B00BBDB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12BF-FBA3-40AC-847F-84C7A046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7860B-DD82-495F-A03F-FB510D5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30426-4120-41FF-B06D-26C2988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E4D25-CCB1-48CD-B42F-4AE3CB1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F0D51-AD56-4B96-B3FC-C5B05F58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FFDF7-1E8B-4F17-8454-DB0F158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75145-0A24-4D66-801D-5E5E7742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CD9-BEE3-46BF-8966-7A15287B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B161A-F49D-4BCD-A1BA-DB303CE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B4202-DEA8-446E-8264-BBE30EC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854C2-4C9B-4E7F-90C0-A848B0E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0345B-DC46-4245-AAFA-73A47FD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DAD54-CD4C-4ABC-A809-6060F30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9E056-736F-4422-AFAE-9747248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AAF4F-E1C2-4A2F-A925-23246BB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6E36F-6114-40BE-AF23-7204139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9F093-A0E6-42F6-A66C-50FEE88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3E15-DCCA-4C9A-A421-194385EE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387-A000-4FE9-B5C9-48289849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2FE6-92A7-4649-B64E-86B883EE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BD7B2-B43D-4096-8688-D5E32561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AB2F8-B94C-427D-A5F5-597EE7B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45979-E76E-4AD3-9100-2B0CB7BD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1D0C7-929B-4A18-B7C4-948318C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465D3-8DC6-49AE-B672-659FCA9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153C2-28C7-4A72-BC8E-3201BA0A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F9A77-E1DD-4A24-9664-46F8B7F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53EC9-83FE-4EE0-B9ED-653DB591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AABDE-CEF3-4B28-A51D-57D14BA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8613-46A8-468B-93C7-9BB2DD18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3102-25D3-4EFC-AD77-3E17864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0250-DA59-4CD2-8105-49BA75C9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A72E1-3E6A-4B92-82CA-E1B4618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1DFA-F218-4D5D-983D-E367609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4C81-E01E-447D-AA79-A311BE7F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D3B25-0BDD-4555-BC7F-BF41CCB1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908B3-6471-49E4-A1C8-2077939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90590-BF11-4D42-A81D-74491B8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8406E-2295-4859-A70C-DE461D5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95AD4-DAF8-4410-9970-212241D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5DEE-4A48-41AB-8E4B-F1BB7F87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9D021-30F3-4918-9AD8-D2ACAD49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24AC4-051F-4336-B8F5-5A2E3A7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4E980-265D-47BE-91D8-CDC9AAF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50D29-78A1-4AE7-A8DD-ED07A956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E72B-0EB8-4705-A8E6-B3448F23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BF815-BC9E-4F6D-9E60-A6D6267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CA459-0772-4D4E-BCA0-7CF9B44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24C43-B319-4FFB-AFCE-6820231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07215-5A5B-410B-814A-DB4062F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E371B-77DB-4D80-9916-5CE577C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100-94E9-45EA-8CBC-BD1113C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22811-A465-413C-9145-EF0A143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9DC6B-2BCF-42E3-A747-0EBBDF3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BC0F3-4079-4A75-BF20-5D8A5B72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497DE-50AD-4438-A50D-E0E911C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89D80-32F9-4F67-A09F-5EC3CCC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FF603-A9D8-4C02-89FD-6A7308CF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6D1C1-934F-4939-B381-09DAA3BA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21846-33CD-414C-BBC1-FCA97797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581B6-522B-4B82-83F4-14C7B44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02252-7A96-4CD9-8BAE-C29E4B3E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74E3-EA2A-478E-8213-DBA3A102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D9ED7-8B6A-465D-A33F-81A4A33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B7CF9-62BF-4564-88BA-2643FD92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EA2D1-82F6-4592-858F-32498AC8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6D755-71DB-4247-A3CE-BA75B007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A5B2D-E74D-487D-8DCF-B38C126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5E68E-59FA-4E4D-8510-946C9CE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4A36B-7A0B-42DD-B620-32668A6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3D052-71BC-4F68-94CF-9547863F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C9989-140A-4E5B-B05D-4A46EFFE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202FA-975C-48A2-B294-92CF1820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78D-8F4A-4D40-BBF4-D5437B33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033FE-94F1-49C6-A2CF-3B2214E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6B88C-8572-4F46-A186-09E44B6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70111-A6A1-43F7-8984-F042F0F2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E64FC-0728-4DBA-B74E-1A1454A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5FB72-FCEC-454D-8B95-8A00CD86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3E9CC-C9AE-4533-BED2-33CAE3B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48C7B-0CA4-4417-BB16-0075267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575E7-1663-4BBE-93A8-C1E9C8B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85259-3104-476C-9C09-F9EB459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7E729-83FA-4793-AE4E-3153C9AB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E00-8A45-450C-8578-E471BE3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8F9A1-837B-435A-894A-2E87EA52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57824-8D74-48B2-B79F-E2AD724F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E5EF0-C10C-4FAC-BE36-2C268E59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2045E-F898-4982-8AEE-5A831C1E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D088C-B2E0-44F4-B451-81FF9BAE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9313B-25F8-4C56-8E73-3AF44105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6A568-1E79-4AD1-9A0D-D80C5DA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BAF1F-0A1B-487B-8A3F-513BC98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01C37-D666-4EF6-8158-7D91583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90A86-5AF0-48FF-B85F-70BEE41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EBF4-CA5B-42C2-AAAF-F940EE9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4145D-CAD8-486E-87CF-CB3A6EB1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517D7-C9D9-4427-ADEE-8942078D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F40D0-E0EC-4896-8A87-5872F380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DDCDD-2449-4729-A3ED-C57A8FEA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8D417-9013-4122-B865-CAF46F39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E589A-D815-4ED6-B268-8A2489B1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73FF2-AA22-41D8-93DE-9AEC492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B90A5-70DC-48E2-B4B1-ABC0AEA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124B2-3D81-42A6-A4B0-212CD24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65D2B-3E7D-4C8B-9A92-8E80D9C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F6F-99D1-491C-9C5E-9B7DFE5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B2B4-0F2F-4FAA-AD7F-44EC0F1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DC51F-A109-4A7B-ACD2-E3CB82B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EF6B1-5FCA-4B30-9064-F6B496B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8DBC2-B890-4DCD-A875-16180A93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CE25E-B20E-4A13-9993-94D512CF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54E86-34F7-4F4D-A7DE-BE917D42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3B1EC3-56F2-479A-AB01-4709E946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DFD7C-FDA5-46B1-B104-F6FA17B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C6C7A-DB7E-49F1-BCE8-E65B2B8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C68D1-F142-42B8-ADE3-59F1CF1F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345A0-C6A9-48D5-BDB1-A328192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494D-21BF-437E-BA8D-E526959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775E6-72B1-4DCF-9B38-2837EBA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933AC-8085-4B8B-B90F-43C52CE5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CB771-0E4E-4775-B496-5E2C30EA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D83F7-30C3-4F83-AA90-B581618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58F1A-8585-48CA-955E-38EF150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FC4F6-B12F-43F3-9AAD-89F95252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340F8-7AA4-43B8-B1AA-13B06930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C27FE-20EA-49D0-8A1E-C2C6F31D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FD155-B861-45C5-87EA-FB5CB17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ABA6F-5AB3-4B07-B071-AED9EC7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3ED2-E314-4928-A398-C85969E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CFC1E-1491-4DB8-BEF6-674CDDA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9F1CB-3C03-4BAF-8701-F56D36E7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FE0BE-77FD-48B4-8A38-81F6D027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1CF8C-2911-4C03-BA69-DF80A25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A4D58-E24F-4C63-B027-8B08A04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7CDA9-E1CC-4A81-804B-04524F4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5E6C0-0688-44C4-8117-B322774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14147-7503-4903-A79B-92F0BEB5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97DC7-7BE2-4055-9B65-6B9E3FD6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C760F-EA0B-41FE-A8A4-09D85EC1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238-FD03-4306-8331-5DD99986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777E4-1FA9-4FC1-BD63-A7AE111C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0F7BF-DF4B-4CC8-974A-0F02285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09199-D016-4093-82B3-E4B78163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7854D-724B-4826-A827-F45F797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4F3FE-D3D7-48CD-8C62-830A9BA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48DCC-56DE-42C5-A65C-92CBEF0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88744-77F7-4788-8E59-BC4540F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D5AE1E-A8A1-490A-8E54-04ED411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20234-8C19-4624-9A09-39399FE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A00C5-B21C-4E44-B0B9-D9E742D0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B8C6-9C6E-4CB2-BCC1-B1959FCA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D1AA6-FDF9-4205-B418-960A22F4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82DAB-EE8F-4BFF-86D3-8F1B71BB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BEE49-4640-4807-AA09-440CECB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2593A-EF24-44B5-BB44-BE5994A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3EF4F-418F-40FB-9579-69CB1B3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081F6-4568-407A-A707-AD527C5C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A178B-0FFA-4202-A5E8-8E82520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51A1A-46FD-4004-A076-FE64EA8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A1902-80F9-40CE-9307-A509990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B3B46-1661-4B3A-8177-A5EC6CF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6AA9-42D3-4CE3-8740-9BA33E62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3B554-0E69-4246-943B-0BAC283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96B59-2222-475B-BF1B-B4B39534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679F9-7735-4A9D-AD2C-72B6FCCE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14016-A483-4F69-864A-CAEDD502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B9E85C-EA52-4D80-BD88-ABFC706C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B07D99-1420-4C7D-92ED-3B8303A2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64323-B561-4246-B83A-570EB6E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04252-28D1-410B-9D04-BEFCE42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A13FA-0E9F-46A4-B622-4220E9C8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F3600B-02ED-467C-B30B-7D62FE3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6D54-3C57-4DEF-AAAB-EEBD3BF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29F83A-8299-4967-814A-8B86B3E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DC892-BC15-426C-AA5B-279B46B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167CA-7C1F-4F05-BFAE-521BFDA5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4CBA9-F358-4083-8866-D3D6A2EA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3DF58-A452-45C0-B182-F249E8B0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5C05-52D7-4D61-8736-5B8B5F7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5ABC-F31C-4559-A045-D75D489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24E1-A0A8-4FC4-B591-C974A9E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13D-4EEC-4D07-8C88-CEBA70F7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A636-0DDC-490F-A9E8-21BFF423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F9DB-09AA-4DE7-A256-0AD0CCD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4421-E38F-4454-85B5-12F9686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D753-C0A0-47AD-BFBF-A604ACA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C406-195B-4528-A571-A7109AF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6EC5-DCFD-4C94-BB27-E05DC69C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EAC7-5ED0-4AC3-9417-D1F797D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32AF-95C7-42EE-B760-53656FEF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8AA1-397E-49AC-9C10-8707FC4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0D80-B753-4CBB-B2E2-4E8F4813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4EA-0181-4C53-8C71-30B5F3A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F76A-0222-4FB9-8E97-2B033DF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7936-2366-49C5-AC65-73774741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F373-8BC9-4D6F-9E27-42DB6E15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D566-EBDA-4DC2-BDCF-6C15EBD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ADD50-6960-4EA4-8859-05FF0C8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83CEC-2466-466B-802C-B6ED29C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DE51-AEE6-4CB1-A408-7483A28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9502-AF21-45FE-93BD-5E69D4EB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1C58-25A0-4937-864C-EEB17CF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A1F7-C68C-45C8-BD62-309535D9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58E-7E47-49C2-B0C7-F36B66FF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7782-3D71-4EB6-916B-C85E083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F9F5-9E64-4A26-9F00-04F6575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7227-EA80-4699-A6C2-CBB0BEAD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A9B7-6DED-41EE-B607-F02CAD0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6840-7E5F-4BA1-A743-674BFBC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24F7-AF54-41C3-9A23-EDEB314B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022E-C478-4B8A-8FFF-938B80A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D6AF-85B7-4314-A076-6715ECB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D66F-6AA1-4C6D-8C5D-86597EF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BFB0-3610-48CF-9516-628F2AD7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018-71A0-46C3-9973-791EE1C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E5B2-53A1-4B50-9070-D1757ACB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A08D7-8D79-449D-9B2F-DDEA1FA0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F390-781E-4C7D-BC39-7242FE4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003F-4362-45DD-9CD1-ED51FD3C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88BCA-E6DC-4D60-BDC3-A83EBDF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E9E9-9836-4051-B0AD-E1D1270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EC63-D3A6-48A6-A510-E0BD61F2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E010-4D12-4865-B8B1-A0D257C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ED87-1A82-4F8D-9D02-BDEEF06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811D-71B6-4A43-8AC9-2B7B4EF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9E0-1010-4F4B-A159-529E34E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95E1-3EDD-40EF-AA95-4474A44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B8B1-9315-4340-BF6B-3E0B4C9F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FC70-EEFC-4287-9747-2B1C881A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E284-40E9-4245-A2A4-CD0FEABA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5588-41EF-4856-ACD0-6E16626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FE92-FC1E-49B0-81B2-EC3A8DC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7AD5-B7AA-47D2-B22A-CA0A6DA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EDE2-394B-484A-B0E7-D665134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0198-E2B8-40E2-A0F9-FC51BBF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27A46-D38A-4231-AC63-49DF444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A03-576C-4CE7-BADD-07810AA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80C3-663C-4F33-9644-F078FACB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F1D8C-EC02-4106-A5AB-0544AE4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8C94-B077-4988-A006-882F362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ABFD-4BE1-4C8E-8073-C504FF06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4D1E-9C01-4715-A3AA-0AE2174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452D-D0AF-4E76-BE59-C72DEFF0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B359-1344-401E-B792-27D5D76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82F3-7D5A-4867-8150-796D818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5860-154F-44A2-9233-F94631E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16D0-622D-4243-A8FD-F15411E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F20-8368-424F-90D5-81886EA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FDE0-12FC-4B00-B889-96308710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D1AC5-49E0-4684-8E96-937728C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3CB8-B74D-4D80-AE84-C1DC95C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5DBF4-B714-4D73-92A3-2AD0AA1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B40F-2DCB-4508-8B18-EB32826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EE02-457B-4A52-A615-AD3659B6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1D96-1725-408C-9548-70A254B2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974A-D013-43D3-93FB-64ACE764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4124-2160-4E2D-8DEA-980F591A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5DB2-449A-4FF9-AA5E-E276AB36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8A3B-6CF7-4C11-8E29-7441CC23B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D9A6-D855-4F18-AC0D-2DA8A6195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B8F0-4258-4613-99BB-4EBBE41D0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F14E-B21A-4534-BC05-A60ABD566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351-8FC7-4DF6-8BC6-813E86593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CB7-F0E0-4B0D-BE8F-C9F03CA39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13E-C45D-44FD-91F5-1A616DB5F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3DF-79C5-4153-8C6D-8EC12BD7FE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4FB9-A576-4FD5-A67A-3596F33A6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E16-081F-4578-9E9F-F822805F9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9A79-EC94-48EF-B153-53CB97D12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D94-D58D-41EA-82EF-73A18E51E3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5B27-7912-4187-BF54-0414789B7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6C6-B34C-4B69-B75A-7849EF7EB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618-7384-4C79-9FF0-BEC3F4679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C31-29A3-4518-8ED5-BFA371872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6E8-93EA-4133-AD12-B518688BC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223-F998-406E-A9E0-233D4B49F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AB9-D276-4528-8D5D-2A474B786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1E2-761C-4A4E-ACE4-F93E36E9E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1FFF-F7DD-4C90-ABA9-83DA06CB65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2E3D-4B45-4ACD-A5A5-B4F2BC1B78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0F8-E46D-42E8-9CB3-3C16C7FB8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40E5-6661-4CDA-8E54-EBCBE4F0C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12E-6DBF-4669-89DA-640F886BC6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155-D1F0-4088-90B0-6A5F34C360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EF2-E63A-4588-B66D-ECE2B548F6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6204-963E-418D-963B-27BFE895E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261-EE4A-4DC6-A730-F1518BE06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067-94A1-453D-974C-C37E1522E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D06-AEBB-4A6B-A897-02D5B8FD8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D426-AAB2-44D0-AD81-3ABCCFFF5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53B9-2AC2-4C0C-B00C-E912F6318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526-37F1-4CF7-9FC4-9997D1BEB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9D5-4302-4635-9116-C7EBE272B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93B5-599E-4AD8-B389-90BB91F8F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288B-081A-48BB-A47A-1130CDD9F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7CF-81A3-4DD7-A249-F8ACF374C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4C9-A9F5-4B0D-B572-C59274292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9DF-203D-4457-9F82-10E4BFE39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21C-1B27-4BFB-BE95-3B117B3E4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900080" y="3062160"/>
            <a:ext cx="5343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57120" y="1652760"/>
            <a:ext cx="8429760" cy="3552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036880" y="41972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333600" y="42069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981600" y="4221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2050920" y="479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348000" y="48117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995640" y="48117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6415200" y="4183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711920" y="41925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8359920" y="42069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6429240" y="47829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726320" y="479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373960" y="479736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7169" descr=""/>
          <p:cNvPicPr/>
          <p:nvPr/>
        </p:nvPicPr>
        <p:blipFill>
          <a:blip r:embed="rId1"/>
          <a:stretch/>
        </p:blipFill>
        <p:spPr>
          <a:xfrm>
            <a:off x="195120" y="919080"/>
            <a:ext cx="8753760" cy="5019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49076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3635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578160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789948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1476360" y="200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3621240" y="200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5767560" y="200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7885080" y="200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0"/>
          <a:stretch/>
        </p:blipFill>
        <p:spPr>
          <a:xfrm>
            <a:off x="150480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1"/>
          <a:stretch/>
        </p:blipFill>
        <p:spPr>
          <a:xfrm>
            <a:off x="364968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2"/>
          <a:stretch/>
        </p:blipFill>
        <p:spPr>
          <a:xfrm>
            <a:off x="5796000" y="2492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3"/>
          <a:stretch/>
        </p:blipFill>
        <p:spPr>
          <a:xfrm>
            <a:off x="791352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4"/>
          <a:stretch/>
        </p:blipFill>
        <p:spPr>
          <a:xfrm>
            <a:off x="149076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5"/>
          <a:stretch/>
        </p:blipFill>
        <p:spPr>
          <a:xfrm>
            <a:off x="363528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6"/>
          <a:stretch/>
        </p:blipFill>
        <p:spPr>
          <a:xfrm>
            <a:off x="578160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7"/>
          <a:stretch/>
        </p:blipFill>
        <p:spPr>
          <a:xfrm>
            <a:off x="789948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8"/>
          <a:stretch/>
        </p:blipFill>
        <p:spPr>
          <a:xfrm>
            <a:off x="1201680" y="55292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9"/>
          <a:stretch/>
        </p:blipFill>
        <p:spPr>
          <a:xfrm>
            <a:off x="1301760" y="501336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0"/>
          <a:stretch/>
        </p:blipFill>
        <p:spPr>
          <a:xfrm>
            <a:off x="1604880" y="45370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1"/>
          <a:stretch/>
        </p:blipFill>
        <p:spPr>
          <a:xfrm>
            <a:off x="2081160" y="42210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22"/>
          <a:stretch/>
        </p:blipFill>
        <p:spPr>
          <a:xfrm>
            <a:off x="2627280" y="41054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23"/>
          <a:stretch/>
        </p:blipFill>
        <p:spPr>
          <a:xfrm>
            <a:off x="3146400" y="42210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24"/>
          <a:stretch/>
        </p:blipFill>
        <p:spPr>
          <a:xfrm>
            <a:off x="3621240" y="451332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25"/>
          <a:stretch/>
        </p:blipFill>
        <p:spPr>
          <a:xfrm>
            <a:off x="392436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26"/>
          <a:stretch/>
        </p:blipFill>
        <p:spPr>
          <a:xfrm>
            <a:off x="4024440" y="5530680"/>
            <a:ext cx="244440" cy="2178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27"/>
          <a:stretch/>
        </p:blipFill>
        <p:spPr>
          <a:xfrm>
            <a:off x="5767560" y="5530680"/>
            <a:ext cx="244440" cy="217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28"/>
          <a:stretch/>
        </p:blipFill>
        <p:spPr>
          <a:xfrm>
            <a:off x="585324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29"/>
          <a:stretch/>
        </p:blipFill>
        <p:spPr>
          <a:xfrm>
            <a:off x="6170760" y="452268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30"/>
          <a:stretch/>
        </p:blipFill>
        <p:spPr>
          <a:xfrm>
            <a:off x="6645240" y="4206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31"/>
          <a:stretch/>
        </p:blipFill>
        <p:spPr>
          <a:xfrm>
            <a:off x="7178760" y="409104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32"/>
          <a:stretch/>
        </p:blipFill>
        <p:spPr>
          <a:xfrm>
            <a:off x="7711920" y="4192560"/>
            <a:ext cx="244800" cy="2174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3"/>
          <a:stretch/>
        </p:blipFill>
        <p:spPr>
          <a:xfrm>
            <a:off x="8186760" y="452268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4"/>
          <a:stretch/>
        </p:blipFill>
        <p:spPr>
          <a:xfrm>
            <a:off x="848988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5"/>
          <a:stretch/>
        </p:blipFill>
        <p:spPr>
          <a:xfrm>
            <a:off x="8604360" y="5530680"/>
            <a:ext cx="244440" cy="2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8193" descr=""/>
          <p:cNvPicPr/>
          <p:nvPr/>
        </p:nvPicPr>
        <p:blipFill>
          <a:blip r:embed="rId1"/>
          <a:stretch/>
        </p:blipFill>
        <p:spPr>
          <a:xfrm>
            <a:off x="52560" y="1647720"/>
            <a:ext cx="9038880" cy="35625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908000" y="3716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05928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99956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332000" y="45957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211640" y="4624560"/>
            <a:ext cx="223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0:1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